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6.wmf" ContentType="image/x-wmf"/>
  <Override PartName="/ppt/media/image19.jpeg" ContentType="image/jpeg"/>
  <Override PartName="/ppt/media/image1.jpeg" ContentType="image/jpeg"/>
  <Override PartName="/ppt/media/image4.gif" ContentType="image/gif"/>
  <Override PartName="/ppt/media/image20.jpeg" ContentType="image/jpeg"/>
  <Override PartName="/ppt/media/image7.wmf" ContentType="image/x-wmf"/>
  <Override PartName="/ppt/media/image11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87C-5B48-49CF-8DB7-2550C538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08E-C4E4-4E10-9C2A-1717668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6A9-6141-4267-8BE1-A3DAD96F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E82-2D55-4D8A-9859-0530A27D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E922-4D45-4A90-8511-C7272AD5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8255-FD5B-4030-A767-82238A96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CC46-751A-44F1-9FC1-4F4A3167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78ED-F388-493E-91B3-6BA82304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A2FE-4C07-4FA8-B07A-B8F5DAE2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D227-325A-4B71-A20E-68E189A1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DE9F-BDF9-4A83-8A93-B68B5A03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3929-DC4C-4AAE-A04D-3656E194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BA78-9C33-4927-8B38-108B3FC4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B316-2C92-47C3-A3B8-810006A2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78DB-306C-4344-AA6B-00BCD363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D45C-C8F0-4330-AF47-FDB0E46A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E301-D587-486C-AFDF-617E12EB5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DA113-6427-47FD-AC4D-EAD7D664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9C17-A021-4DC5-B3D0-93F4942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7E8B-5219-4D6D-A36D-AB40FD4A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7E41-C7CB-44DC-B04E-AB90EB49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F524-6139-4102-91EE-BF2F42C0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F71-54ED-4CFA-AE85-892AEB4A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5497-45ED-4F17-9E06-5FDF21D5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3233C-2A97-482F-99FB-F4807D4D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8ED0E-5A33-478A-B0D4-3EB3ADDE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5B86-8D9A-42AC-AE53-C6424AA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5A36C-404F-4359-9819-3CF7FC1B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74A9-7C12-4A6F-BA7C-829EFA14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2ABD-9EE3-4395-9DC7-E9ED3440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0AF6-DD15-4699-A0D7-7C45F3B0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9F17C-4846-4787-9865-656C591B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64A63-4121-4551-8761-1EB61A80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0B2-5124-4BC5-A699-030F8DCD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D40E4-BAFD-4BA7-961E-04DD4FBA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5970B-1EC9-4C09-B9DC-E9B72CA9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E5B4-2F93-486E-8838-A78AAD52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815C-043C-41CA-8BEA-228CA1B5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E6DC8-0224-4E27-A12F-BAE0CD4C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C817E-51F1-4827-B481-456A32C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6C9BC-7285-4D6A-B2AD-6E1EEE1A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487A4-FDD1-4284-B8D2-9A2BBB42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C16CD-855A-4FC0-8DA9-B009EAF0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E7423-720E-4087-AFEA-9C9C8364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2D1-8466-479E-8A42-08DE63A8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5400-6FA3-4996-B3FF-5F5B9292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403DE-71EE-4870-8ACB-867D4D19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01CF-6E12-4595-A947-AC5D05C5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085A-1714-4D20-90A1-BAD915AA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F5663-E23F-4B2C-BDC1-4D004209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B4DE9-B457-49AD-8FC9-3FB4C62B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4A92C-00AE-4396-A467-F882D7F7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F058-5185-4426-87B9-3976D970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54DE4-A9E3-4667-9FEF-68320ABB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4A882-C9DD-4F31-9374-732B9BDD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531-B6E7-451D-9BC5-6B5E4FE9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FD395-84D8-4C5C-AE44-C5FD5A4F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5D387-F54D-4CB8-A3D9-7B320D4D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2855F-6E6D-4966-BFF2-91E7CA73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8C90-EFFC-4C93-B99D-E2735AE3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AA9C-AD7E-46F3-BDB3-91804B8A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49A7-1357-425A-A828-4C180014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FE342-7E94-41DA-97A5-D283494A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D08F4-B065-4E9B-8083-2EFA6665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85470-39EA-4FB2-A6A5-60503D8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0409D-4CD4-4021-BD73-3D00B1FF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E76-49F1-43E9-BF8A-C8B9971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C3B2C-2B18-4E7F-848C-B983B09D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DB551-8B04-477B-A1E9-D69C3BDC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3B7A8-87F1-4316-A453-24FEBA21E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02282-4A01-400E-9E27-6C085B5E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94D34-73FE-438B-818C-AF462EC0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BA1E1-6A98-43E5-B663-DA88A99D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DB8E1-EB83-4D01-BC70-977EC06C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318E-53D3-40F0-BEC2-01512FB8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8D78F-B19A-4E9F-AFF9-544B76E8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8225A-B96D-418C-86D9-35CC55F9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12C-8460-47E7-8C17-38903F9C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2A32D-64F7-4B2C-8992-389B1497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CD749-5951-43B7-A53A-3A094CB3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FE61E-4EA1-42A7-AF65-345B1FAC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C9406-B92F-4DF0-A4F2-2F4A513E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113AB-634F-4A06-BFA4-D48E7B23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5FB-8C86-4D12-B362-F32B36A5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9807-B1F7-4D8F-B253-372D6659D3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9176-0D96-4E26-8867-71A7CEDC37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8800-B7A5-4894-8182-159F424565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4FB1-94ED-482D-B394-E087BE0DCB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0F1-DB90-4F78-B975-6D1B62B44D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6DFC-6DDA-4C1E-9AA8-010C88C643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4F28-120C-4D65-B881-227155C0DD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42148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Учительский прое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81120" y="2133720"/>
            <a:ext cx="79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«Экологическое образование и воспитание на уроках и во внеурочное время</a:t>
            </a:r>
            <a:r>
              <a:rPr b="0" lang="ru-RU" sz="2400" spc="-1" strike="noStrike">
                <a:solidFill>
                  <a:srgbClr val="00b05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b05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5143680" y="4005360"/>
            <a:ext cx="3605040" cy="1938240"/>
          </a:xfrm>
          <a:prstGeom prst="rect">
            <a:avLst/>
          </a:prstGeom>
          <a:solidFill>
            <a:srgbClr val="ffffff"/>
          </a:solidFill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стовалова Любов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Times New Roman"/>
              </a:rPr>
              <a:t>Александровна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учитель хим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1-Пересыпкинский фили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МБОУ 2-Гаврил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4500720" y="83664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«…Родина,- мы говорим , волнуясь,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Даль без края видим пред собой,      Это – наше детство, наша юность,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Это все, что мы зовем судьбой…»</a:t>
            </a:r>
            <a:r>
              <a:rPr b="0" lang="en-US" sz="1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6"/>
          <p:cNvSpPr/>
          <p:nvPr/>
        </p:nvSpPr>
        <p:spPr>
          <a:xfrm>
            <a:off x="20160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7"/>
          <p:cNvSpPr/>
          <p:nvPr/>
        </p:nvSpPr>
        <p:spPr>
          <a:xfrm>
            <a:off x="4071960" y="857160"/>
            <a:ext cx="442908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ТекстСлайда1" descr="IMG_1635"/>
          <p:cNvPicPr/>
          <p:nvPr/>
        </p:nvPicPr>
        <p:blipFill>
          <a:blip r:embed="rId1"/>
          <a:stretch/>
        </p:blipFill>
        <p:spPr>
          <a:xfrm>
            <a:off x="1258920" y="3573360"/>
            <a:ext cx="337968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88640" y="288720"/>
            <a:ext cx="5861160" cy="2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спространение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692000" y="907560"/>
            <a:ext cx="689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е опыта работы на районном  у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ки - творческие отчеты (1 раз в четверт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зентация проекта «История развития хим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зентация проектов учащихся и коллективное выступление учащихся для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тупления на МО «Проектная деятельность в обучении химии», «Формирование ключевых компетенций», « Экологическое образование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ространение памяток, листовок и буклетов среди учащихся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научно-практической конференции «Наш кра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5" descr="Фото16"/>
          <p:cNvPicPr/>
          <p:nvPr/>
        </p:nvPicPr>
        <p:blipFill>
          <a:blip r:embed="rId1"/>
          <a:stretch/>
        </p:blipFill>
        <p:spPr>
          <a:xfrm>
            <a:off x="3419640" y="4149720"/>
            <a:ext cx="2304720" cy="25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92000" y="907560"/>
            <a:ext cx="23749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7f00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371600" y="251460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468360" y="1557360"/>
            <a:ext cx="8305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Проанализировано состояние проблемы исследования в психолого – педагогической.  научно – методической литера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Составлены программа экологизированного школьного курса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химии (8-11 кл. О.С.Габриеляна), дидактически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Совместно с детьми  разработаны проек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Мониторинг рек Вороны и Кар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Химия в жизни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Растения и животные Тамб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«Экологическое образование и воспитание в школ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 Black"/>
              </a:rPr>
              <a:t>За последние три года выросло качество знаний по химии и уровень  познавательного интереса и деятельности школь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6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Информационные ресурс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10" descr="j0215709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928800"/>
          </a:xfrm>
          <a:prstGeom prst="rect">
            <a:avLst/>
          </a:prstGeom>
          <a:ln w="0">
            <a:noFill/>
          </a:ln>
        </p:spPr>
      </p:pic>
      <p:sp>
        <p:nvSpPr>
          <p:cNvPr id="330" name="БлокТекста1"/>
          <p:cNvSpPr/>
          <p:nvPr/>
        </p:nvSpPr>
        <p:spPr>
          <a:xfrm>
            <a:off x="1292400" y="620640"/>
            <a:ext cx="753408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Биология, экология, здоровый образ жизни. Волгоград 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2.Доклад о состоянии окружающей среды и использовании природных ресурсов Тамбовской области. Тамбов. 2005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Изучаем малые реки. Тамбов. 2002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4.Интел.Обучение для будущего.Москва.Издательство торг. Дом «Русская редакция» 2004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Малышкина В. Занимательная химия нескучный учебник. Санкт-Петербург. Тригон. 2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Организация проектной деятельности по химии. Волгоград»Корифей»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Пичугина Г.В. Повторяем химию на примерах из повседневной жизни. М. Изд. АРКТИ 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Программа «Пока не поздно» РДО «Парус» секция»ЭКО-Центр»  БРАУН Л.of Word, 2005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Сергеева М.П. Внеклассная работа по химии. М. Изд. АРКТИ 2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Солопова Н.К. и др.Технология орг. уроков по хими и биологии по проектной методике Тамбов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Учебные проекты с использованием Microsoft Offic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«М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етодическое пособие для учителя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2007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12.Химия.Проектная деятельность учащихся.Волгоград. «Учитель»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Ресурсы Интерн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7" descr="текст 028"/>
          <p:cNvPicPr/>
          <p:nvPr/>
        </p:nvPicPr>
        <p:blipFill>
          <a:blip r:embed="rId1"/>
          <a:stretch/>
        </p:blipFill>
        <p:spPr>
          <a:xfrm>
            <a:off x="4859280" y="1484280"/>
            <a:ext cx="3564000" cy="2290680"/>
          </a:xfrm>
          <a:prstGeom prst="rect">
            <a:avLst/>
          </a:prstGeom>
          <a:ln w="0">
            <a:noFill/>
          </a:ln>
        </p:spPr>
      </p:pic>
      <p:pic>
        <p:nvPicPr>
          <p:cNvPr id="332" name="Картинка1" descr="f6"/>
          <p:cNvPicPr/>
          <p:nvPr/>
        </p:nvPicPr>
        <p:blipFill>
          <a:blip r:embed="rId2"/>
          <a:stretch/>
        </p:blipFill>
        <p:spPr>
          <a:xfrm>
            <a:off x="611280" y="4221000"/>
            <a:ext cx="3421080" cy="2319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SDC13486"/>
          <p:cNvPicPr/>
          <p:nvPr/>
        </p:nvPicPr>
        <p:blipFill>
          <a:blip r:embed="rId3"/>
          <a:stretch/>
        </p:blipFill>
        <p:spPr>
          <a:xfrm>
            <a:off x="684360" y="126828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Фотка-0027"/>
          <p:cNvPicPr/>
          <p:nvPr/>
        </p:nvPicPr>
        <p:blipFill>
          <a:blip r:embed="rId4"/>
          <a:stretch/>
        </p:blipFill>
        <p:spPr>
          <a:xfrm>
            <a:off x="4859280" y="3843360"/>
            <a:ext cx="3592440" cy="26938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ы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6" descr="Фото16 008"/>
          <p:cNvPicPr/>
          <p:nvPr/>
        </p:nvPicPr>
        <p:blipFill>
          <a:blip r:embed="rId1"/>
          <a:stretch/>
        </p:blipFill>
        <p:spPr>
          <a:xfrm>
            <a:off x="611280" y="3573360"/>
            <a:ext cx="2289240" cy="3284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Фото16 012"/>
          <p:cNvPicPr/>
          <p:nvPr/>
        </p:nvPicPr>
        <p:blipFill>
          <a:blip r:embed="rId2"/>
          <a:stretch/>
        </p:blipFill>
        <p:spPr>
          <a:xfrm>
            <a:off x="6588000" y="3716280"/>
            <a:ext cx="2119320" cy="2973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Фото16 005"/>
          <p:cNvPicPr/>
          <p:nvPr/>
        </p:nvPicPr>
        <p:blipFill>
          <a:blip r:embed="rId3"/>
          <a:stretch/>
        </p:blipFill>
        <p:spPr>
          <a:xfrm>
            <a:off x="6084720" y="1700280"/>
            <a:ext cx="2824200" cy="1944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Фото"/>
          <p:cNvPicPr/>
          <p:nvPr/>
        </p:nvPicPr>
        <p:blipFill>
          <a:blip r:embed="rId4"/>
          <a:stretch/>
        </p:blipFill>
        <p:spPr>
          <a:xfrm>
            <a:off x="3780000" y="4221000"/>
            <a:ext cx="2665080" cy="1998720"/>
          </a:xfrm>
          <a:prstGeom prst="rect">
            <a:avLst/>
          </a:prstGeom>
          <a:ln w="0">
            <a:noFill/>
          </a:ln>
        </p:spPr>
      </p:pic>
      <p:pic>
        <p:nvPicPr>
          <p:cNvPr id="342" name="Картинка1" descr="fakir"/>
          <p:cNvPicPr/>
          <p:nvPr/>
        </p:nvPicPr>
        <p:blipFill>
          <a:blip r:embed="rId5"/>
          <a:stretch/>
        </p:blipFill>
        <p:spPr>
          <a:xfrm>
            <a:off x="7413480" y="0"/>
            <a:ext cx="1730520" cy="1690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проект"/>
          <p:cNvPicPr/>
          <p:nvPr/>
        </p:nvPicPr>
        <p:blipFill>
          <a:blip r:embed="rId6"/>
          <a:stretch/>
        </p:blipFill>
        <p:spPr>
          <a:xfrm>
            <a:off x="2627280" y="1557360"/>
            <a:ext cx="3298680" cy="2300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проект8"/>
          <p:cNvPicPr/>
          <p:nvPr/>
        </p:nvPicPr>
        <p:blipFill>
          <a:blip r:embed="rId7"/>
          <a:stretch/>
        </p:blipFill>
        <p:spPr>
          <a:xfrm>
            <a:off x="324000" y="549360"/>
            <a:ext cx="19350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685800" y="4267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3840" y="500040"/>
            <a:ext cx="838980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Тип проект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о виду деятельности –    практико-ориентированны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о форме организации –   групповой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по продолжительности –   долгосрочн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Период разработки и реализации проект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20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г.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Участники проекта</a:t>
            </a:r>
            <a:r>
              <a:rPr b="1" i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ученики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-1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ласс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ов. 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13" descr="MCj03981330000[1]"/>
          <p:cNvPicPr/>
          <p:nvPr/>
        </p:nvPicPr>
        <p:blipFill>
          <a:blip r:embed="rId1"/>
          <a:stretch/>
        </p:blipFill>
        <p:spPr>
          <a:xfrm rot="411000">
            <a:off x="6713640" y="4427640"/>
            <a:ext cx="2320920" cy="221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аждый период развития человеческого общества несет в себе свои проблемы. Среди современных проблем, стоящих перед мировым сообществом, особенно выделяется одна – проблема ухудшения качества среды обитания человека. Она носит глобальный характер и волнует людей всех стр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Понижение у современных школьников уровня познавательного интереса к обучению - вопрос, который волнует не только учителей, но и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Концепция школьного химического образования предполагает усвоение некоторого минимального объема химических знаний, необходимых для повседневной жизни и деятельности, обеспечивающих рациональное поведение и элементарную безопасность свою и окружающих, чтобы предотвратить ущерб природе и своему здоров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7f00"/>
                </a:solidFill>
                <a:latin typeface="Times New Roman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1355760" y="2550960"/>
            <a:ext cx="717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1258920" y="1197000"/>
            <a:ext cx="7026120" cy="67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С</a:t>
            </a:r>
            <a:r>
              <a:rPr b="0" lang="en-US" sz="1600" spc="-1" strike="noStrike">
                <a:solidFill>
                  <a:srgbClr val="1f497d"/>
                </a:solidFill>
                <a:latin typeface="Arial"/>
              </a:rPr>
              <a:t>оздание условий для экологического,  духовно – нравственного воспитания школьников и гражданского становления развивающейся личности на основе изучения экологии родного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Проанализировать педагогическую, методическую, экологическую, химическую литературу и нормативные документы по проблеме иссле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Изучить передовой педагогический опыт по теме исслед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Дополнить программу по химии экологическим содерж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Разработать дидактические материалы для учебного процесса и внеклассной работы по эк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Организовать проектную и исследовательскую деятельность учащихся на уроках химии и во внеклассной рабо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Экспериментально проверить результаты внедрения в школьный курс химии экологических знаний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Объект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а по химии для общеобразовательных школ О .С. Габриел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ебно – воспитатель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64430"/>
                </a:solidFill>
                <a:latin typeface="Times New Roman"/>
              </a:rPr>
              <a:t>Предмет исследования: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внеклассная экологическая работа по изучению флоры и фауны  родного края и уроки химии, биологии как средство экологического воспитания школь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755640" y="321300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287280"/>
            <a:ext cx="731844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РОБЛЕМЫ САМОСТОЯТЕЛЬНЫХ ИССЛЕДОВАН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825200" y="1434960"/>
            <a:ext cx="7318440" cy="20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К СОХРАНИТЬ РЕДКИЕ И СЧЕЗАЮШИЕ РАСТЕНИЯ КРАСНОЙ КНИГ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К ОЧИСТИ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ОХРАНИ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ОДНИКИ И РЕКИ  ПРОТЕКАЮЩИЕ ПО ТЕРРИТОРИИ СЕЛА ПЕРЕСЫПКИ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К ДОСТУЧАТЬСЯ ДО НАСЕЛЕНИЯ, И ПОБУДИТЬ ИХ ПОМОГАТЬ В ОХРАНЕ ОКРУЖАЮЩЕЙ СРЕД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СОХРАНИТЬ СВОЁ ЗДОРОВЬЕ В ПРОЦЕССЕ ЖИЗНЕДЕЯТЕЛЬНОСТ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825200" y="4005360"/>
            <a:ext cx="7318440" cy="18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РЕЗУЛЬТАТЫ ИССЛЕДОВАНИЙ В ВИДЕ: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ЕЗЕНТАЦИЙ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УБЛИКАЦИЙ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ДОКЛАД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Этапы работы над проек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rbel"/>
              </a:rPr>
              <a:t>1этап. Информационно-поисковый (подготовительны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rbel"/>
              </a:rPr>
              <a:t>2 этап. Внедренческий-исследовательск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rbel"/>
              </a:rPr>
              <a:t>3 этап. Контрольно-аналитический (оценочный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5" descr="Фото16 003"/>
          <p:cNvPicPr/>
          <p:nvPr/>
        </p:nvPicPr>
        <p:blipFill>
          <a:blip r:embed="rId1"/>
          <a:stretch/>
        </p:blipFill>
        <p:spPr>
          <a:xfrm>
            <a:off x="0" y="2205000"/>
            <a:ext cx="20858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676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4430"/>
                </a:solidFill>
                <a:latin typeface="Corbel"/>
              </a:rPr>
              <a:t>Предполагаемые результаты проект</a:t>
            </a:r>
            <a:r>
              <a:rPr b="0" lang="ru-RU" sz="2800" spc="-1" strike="noStrike">
                <a:solidFill>
                  <a:srgbClr val="a64430"/>
                </a:solidFill>
                <a:latin typeface="Corbe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329840" y="785520"/>
            <a:ext cx="7813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Пробуждение интереса школьников к урокам химии, биологии, к экологи</a:t>
            </a:r>
            <a:r>
              <a:rPr b="0" lang="ru-RU" sz="2400" spc="-1" strike="noStrike">
                <a:solidFill>
                  <a:srgbClr val="1f497d"/>
                </a:solidFill>
                <a:latin typeface="Corbel"/>
              </a:rPr>
              <a:t>ч</a:t>
            </a: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еской обстановке села, района, Тамбовского кра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развитие у школьников чувства гордости за свой край , воспитание любви к своей малой родин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накопление знаний о флоре и фауне родного края, о роли человека в сохранении приро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формирование эмоционально-оценочного отношения к малой родине,   общечеловеческих ценностей, обеспечивающих экологическое воспитание дет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участие обучающихся в проектной деятельности, в решении задач творческого и поискового характера, участие в конкурс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развитие умений и навыков практической деятельности, формирование ключевых компетенций подрос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повышение качества знаний по химии и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93920" y="-360"/>
            <a:ext cx="77500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Направления и формы работы:</a:t>
            </a: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258560" y="1147320"/>
            <a:ext cx="7885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Изучение природы и экологической ситуации  родного краяи стр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Информационно-просветительские экскурсии, походы, лекции, бес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Поисково – исследовательская деятельность, экспериментальная деятельность , аналитическ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Подготовка и  создание проектов, презентаций, буклетов, рефератов, докладов, э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Встречи с  людьми , занимающимися природоохранной деятель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Проведение экологических праздни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Проведение уроков-конференц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     </a:t>
            </a:r>
            <a:r>
              <a:rPr b="0" lang="en-US" sz="2400" spc="-1" strike="noStrike">
                <a:solidFill>
                  <a:srgbClr val="1f497d"/>
                </a:solidFill>
                <a:latin typeface="Corbel"/>
              </a:rPr>
              <a:t>круглых сто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8" descr="7"/>
          <p:cNvPicPr/>
          <p:nvPr/>
        </p:nvPicPr>
        <p:blipFill>
          <a:blip r:embed="rId1"/>
          <a:stretch/>
        </p:blipFill>
        <p:spPr>
          <a:xfrm>
            <a:off x="6588000" y="4929120"/>
            <a:ext cx="2159280" cy="19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91840" y="837720"/>
            <a:ext cx="76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rbel"/>
              </a:rPr>
              <a:t>Уровень сформированности эколого-нравственных качеств школьников  на начало и завершение реализации проект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2405160" y="2127240"/>
          <a:ext cx="67388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5160" y="2127240"/>
                    <a:ext cx="67388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71600" y="29808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ценк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нности экологической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32000" y="1400040"/>
            <a:ext cx="316872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н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продуктивно- воспроизводящий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дуктивно- воспроизводящий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Творчески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7" name="Object 4"/>
          <p:cNvGraphicFramePr/>
          <p:nvPr/>
        </p:nvGraphicFramePr>
        <p:xfrm>
          <a:off x="5095800" y="1365120"/>
          <a:ext cx="3594240" cy="237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5800" y="1365120"/>
                    <a:ext cx="35942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5"/>
          <p:cNvGraphicFramePr/>
          <p:nvPr/>
        </p:nvGraphicFramePr>
        <p:xfrm>
          <a:off x="4905360" y="3948120"/>
          <a:ext cx="4021200" cy="2308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5360" y="3948120"/>
                    <a:ext cx="402120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6"/>
          <p:cNvSpPr/>
          <p:nvPr/>
        </p:nvSpPr>
        <p:spPr>
          <a:xfrm>
            <a:off x="611280" y="4165560"/>
            <a:ext cx="414180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м итогом сформированности экологической компетенции учащихся явилось продвижение их от репродуктивно-воспроизводящего уровня к творческ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7:03:30Z</dcterms:created>
  <dc:creator>user</dc:creator>
  <dc:description/>
  <dc:language>en-US</dc:language>
  <cp:lastModifiedBy>1</cp:lastModifiedBy>
  <dcterms:modified xsi:type="dcterms:W3CDTF">2022-02-26T16:31:41Z</dcterms:modified>
  <cp:revision>278</cp:revision>
  <dc:subject/>
  <dc:title>Химия и экология</dc:title>
</cp:coreProperties>
</file>